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25F2C-BF77-4457-BDD5-E4198C75A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D5F7F-100D-4C40-A7E1-10470D589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1D9AC-5BF1-4B4D-BC00-1C497C629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5EAA7-F064-43F0-9E25-0FFFC8B05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DAD290-1995-436C-BF82-3AB9595003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10A32-5A09-420B-A507-CF3D0C75E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2E8C7-5B9F-4A29-B90D-86B6505A40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C41203-EDFD-40F0-BB93-9AE43F9427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E1D20-DF48-4246-B10D-294765363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C1AF9-B021-4CF6-BD9A-2DA5C08CCE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F7944-E92E-4A64-B5A5-24D700654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960EE-07EB-4ABA-81C0-BE0DD51F9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162E5-A220-4E3F-8093-9246FDF8A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943DC-FCC9-4E5B-AA19-6B045FE89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23A729-7DA3-4627-98FB-761A299450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921F13-8DEA-4D3C-B514-4FBE9427F2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C8868D-F390-498A-B295-AA59A39AD2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53A0C7-33C1-4174-BB37-1B2B2C1CA5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7B4949-15C5-4F06-990E-844AEFA88B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4F59F0-31FE-4E04-B2BF-EB73C1DF7B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9CB7FD-1062-425F-A403-7AECD0A3AB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3A5416-F381-4211-8CDD-40E94082CF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11534-5C44-4802-A881-E40E6A94E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236899-8171-4510-8FFE-9A27A9193A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A4865A-B28D-486A-ACF9-011F92D950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A34F7D-6B56-4AE0-8B12-2AC1706458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BDD4B9-1D0E-4B8E-9B8B-A42C91A6FF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5A5448-7DF3-4C04-BAEF-DD21588FD3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6CD0E4-7FE3-4E5C-BDA5-60C03AA333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243FE4-6901-4023-93FB-7D1581B50B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E1FEB1-6723-4DDC-AF5C-A3CC910B1F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612EF4-FDB0-47AD-87EF-25D48FD024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A37EEB-8F7A-4566-9DAD-26E6007D1F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E6E4A-2102-4754-9607-813CFD07B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8A8588-3CF9-468B-85E3-0AD108E5B7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70B568-2AAB-4B19-983F-0A1B65DEF3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E20192-277E-4055-81FF-D733048E5F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BAC17D-1540-493D-8896-582B213D93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3103AD-DEC4-479C-89FC-521AF824C1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FA69EF-7040-48B9-A8F2-CB3D398D48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D7DAA6-DD33-4C7E-84D9-CCC59EBB8A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56301D-EDB9-449B-8CFD-549E945BAC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AE71F1-4983-4A38-ACB1-8D590F201E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FA0B05-F7ED-48CE-9B31-03FF609E52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D6809-6C80-4AF1-AEDA-5AF4D54BE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6EC48F-E2BE-4DA9-B81E-D8F4BE3A12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E1C794-DF0E-4FCF-B144-742727589F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33A573-77D0-42AF-A06F-4F52AB6E0E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2BA080-688F-47E3-9D9E-66E94621DE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CA5EDE-FE0C-470F-AB50-551A386008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3AEB65-6B26-4455-9AF7-AFA4A8ECED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DCE590-9DBD-4BE5-9FF7-7D0B9ED951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3B6CD8-BF4C-4426-A1D0-D4437CE314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2AE74D-D26B-4BE6-89EC-AF547BE6CC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94F871-4D2F-46B5-AAFB-4115770998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E8656-0BC6-4B00-9AF6-9B667143D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1A0BB2-43C5-4CF0-916E-A982189CD5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38C82-DEB1-420C-90DE-AFF635076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97C9A-175C-4AFF-98C9-B3385FBBA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9F551-A09E-4230-93BA-0549B2A81B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7D0C32-05DB-47D3-9FE2-9BFD39792E23}"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2DDA82-08E2-47F5-BFCA-98D58F536C01}"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90" name="Rectangle à coins arrondis 10"/>
          <p:cNvGrpSpPr/>
          <p:nvPr/>
        </p:nvGrpSpPr>
        <p:grpSpPr>
          <a:xfrm>
            <a:off x="55440" y="60480"/>
            <a:ext cx="9033120" cy="6711840"/>
            <a:chOff x="55440" y="60480"/>
            <a:chExt cx="9033120" cy="6711840"/>
          </a:xfrm>
        </p:grpSpPr>
        <p:pic>
          <p:nvPicPr>
            <p:cNvPr id="91" name="Rectangle à coins arrondis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F014C2-F281-4BA5-B346-497FCB26DA1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140648-7093-4412-81D3-1D1019E8C2CD}"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327FF1-505D-4C1D-8E56-5311D8771084}"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29"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30"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E62A50-8CB9-4556-AE44-2F84880F7FDE}"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1"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grpSp>
        <p:nvGrpSpPr>
          <p:cNvPr id="232" name="Group 7"/>
          <p:cNvGrpSpPr/>
          <p:nvPr/>
        </p:nvGrpSpPr>
        <p:grpSpPr>
          <a:xfrm>
            <a:off x="2209680" y="3213000"/>
            <a:ext cx="4730760" cy="2832120"/>
            <a:chOff x="2209680" y="3213000"/>
            <a:chExt cx="4730760" cy="2832120"/>
          </a:xfrm>
        </p:grpSpPr>
        <p:pic>
          <p:nvPicPr>
            <p:cNvPr id="233" name="Picture 5" descr="_x001f_Cliché 2009-06-26 12-58-25.tiff                                000BB313_x000c_Macintosh HD                   C3621A85:"/>
            <p:cNvPicPr/>
            <p:nvPr/>
          </p:nvPicPr>
          <p:blipFill>
            <a:blip r:embed="rId2"/>
            <a:stretch/>
          </p:blipFill>
          <p:spPr>
            <a:xfrm>
              <a:off x="2209680" y="3213000"/>
              <a:ext cx="4730760" cy="2832120"/>
            </a:xfrm>
            <a:prstGeom prst="rect">
              <a:avLst/>
            </a:prstGeom>
            <a:ln w="0">
              <a:noFill/>
            </a:ln>
          </p:spPr>
        </p:pic>
        <p:sp>
          <p:nvSpPr>
            <p:cNvPr id="234" name="Rectangle 6"/>
            <p:cNvSpPr/>
            <p:nvPr/>
          </p:nvSpPr>
          <p:spPr>
            <a:xfrm>
              <a:off x="6559560" y="3213000"/>
              <a:ext cx="362160" cy="762840"/>
            </a:xfrm>
            <a:prstGeom prst="rect">
              <a:avLst/>
            </a:prstGeom>
            <a:solidFill>
              <a:srgbClr val="5973b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04480"/>
            <a:ext cx="7772400" cy="765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7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7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66CE43-96F8-4F5D-9E05-E0B4243AC8C8}"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79" name="Image 6" descr=""/>
          <p:cNvPicPr/>
          <p:nvPr/>
        </p:nvPicPr>
        <p:blipFill>
          <a:blip r:embed="rId1"/>
          <a:stretch/>
        </p:blipFill>
        <p:spPr>
          <a:xfrm>
            <a:off x="765000" y="919080"/>
            <a:ext cx="7566120" cy="4772160"/>
          </a:xfrm>
          <a:prstGeom prst="rect">
            <a:avLst/>
          </a:prstGeom>
          <a:ln w="0">
            <a:noFill/>
          </a:ln>
        </p:spPr>
      </p:pic>
      <p:sp>
        <p:nvSpPr>
          <p:cNvPr id="280" name="Rectangle 6"/>
          <p:cNvSpPr/>
          <p:nvPr/>
        </p:nvSpPr>
        <p:spPr>
          <a:xfrm>
            <a:off x="458640" y="5680080"/>
            <a:ext cx="79534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rPr>
              <a:t>C. Castelfranchi et al., Deliberative Normative Agents: Principles and Architecture, Proc. ATAL '99 6th International Workshop on Intelligent Agents VI, Agen Theories, Architectures, and Languages (ATAL), Springer-Verlag London, UK, 2000</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82" name=""/>
          <p:cNvSpPr txBox="1"/>
          <p:nvPr/>
        </p:nvSpPr>
        <p:spPr>
          <a:xfrm>
            <a:off x="914400" y="1447920"/>
            <a:ext cx="7772400" cy="4572000"/>
          </a:xfrm>
          <a:prstGeom prst="rect">
            <a:avLst/>
          </a:prstGeom>
          <a:noFill/>
          <a:ln w="0">
            <a:noFill/>
          </a:ln>
        </p:spPr>
        <p:txBody>
          <a:bodyPr anchor="t">
            <a:normAutofit fontScale="94000"/>
          </a:bodyPr>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wo distinct operations: (a) the activation of plan and norm declarations and the generation of a set of instantiations of both plans and norms, (b) the actual plan selection / execution process.</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activation of plans and norms is  a preparatory step for the deliberation process. These two operations are implemented as two independent and concurrently operating tasks.</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ctivation of plans and norms is strongly inspired by the processing of a production system (see, for example CLIPS (Giarrantano and Riley 1993)).</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gents must be able to adopt and “ un” –adopt norms at any time. This requires an activation mechanism that allows the registration of newly adopted norms at any time. </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ewly adopted norms should be immediately influential to the agent’ s acting – they are subject to activation, as soon as they are adopted.</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M. J. Kollingbaum, Norm-Governed Practical Reasoning Agents, . PhD Thesis, University of Aberdeen.</a:t>
            </a:r>
            <a:endParaRPr b="0" lang="en-US" sz="1800" spc="-1" strike="noStrike">
              <a:solidFill>
                <a:srgbClr val="000000"/>
              </a:solidFill>
              <a:latin typeface="Perpetua"/>
            </a:endParaRPr>
          </a:p>
        </p:txBody>
      </p:sp>
      <p:sp>
        <p:nvSpPr>
          <p:cNvPr id="283"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4"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5"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E53279-B87B-45FB-BF3A-B031B6AA3ED0}"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87"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8"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9"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E67F3F-C858-49A0-9CFC-5695C374162B}"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0" name="Image 5" descr=""/>
          <p:cNvPicPr/>
          <p:nvPr/>
        </p:nvPicPr>
        <p:blipFill>
          <a:blip r:embed="rId1"/>
          <a:stretch/>
        </p:blipFill>
        <p:spPr>
          <a:xfrm>
            <a:off x="984240" y="1417680"/>
            <a:ext cx="7007400" cy="464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4320"/>
            <a:ext cx="7772400" cy="811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92" name=""/>
          <p:cNvSpPr txBox="1"/>
          <p:nvPr/>
        </p:nvSpPr>
        <p:spPr>
          <a:xfrm>
            <a:off x="914400" y="1246320"/>
            <a:ext cx="7772400" cy="477360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gent’s basic cycle as policy automata, with « institutional » filters operating transitions between policies, based on context changes detection.</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o each policy corresponds a set of « operational » filters to which the agent may (or not) subscribe. These operational filters regulate the activation of agent’s methods and the selection of internal parameters. </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ome policies may be initial or terminal, or loop indefinitely</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launching of a filter implies, for any agent:</a:t>
            </a:r>
            <a:endParaRPr b="0" lang="en-US" sz="20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Current policy P</a:t>
            </a:r>
            <a:r>
              <a:rPr b="0" lang="fr-FR" sz="1600" spc="-1" strike="noStrike" baseline="-25000">
                <a:solidFill>
                  <a:srgbClr val="000000"/>
                </a:solidFill>
                <a:latin typeface="Perpetua"/>
              </a:rPr>
              <a:t>i</a:t>
            </a:r>
            <a:r>
              <a:rPr b="0" lang="fr-FR" sz="1600" spc="-1" strike="noStrike">
                <a:solidFill>
                  <a:srgbClr val="000000"/>
                </a:solidFill>
                <a:latin typeface="Perpetua"/>
              </a:rPr>
              <a:t> </a:t>
            </a:r>
            <a:r>
              <a:rPr b="0" lang="fr-FR" sz="1600" spc="-1" strike="noStrike">
                <a:solidFill>
                  <a:srgbClr val="000000"/>
                </a:solidFill>
                <a:latin typeface="Wingdings"/>
                <a:ea typeface="Wingdings"/>
              </a:rPr>
              <a:t></a:t>
            </a:r>
            <a:r>
              <a:rPr b="0" lang="fr-FR" sz="1600" spc="-1" strike="noStrike">
                <a:solidFill>
                  <a:srgbClr val="000000"/>
                </a:solidFill>
                <a:latin typeface="Perpetua"/>
              </a:rPr>
              <a:t> P</a:t>
            </a:r>
            <a:r>
              <a:rPr b="0" lang="fr-FR" sz="1600" spc="-1" strike="noStrike" baseline="-25000">
                <a:solidFill>
                  <a:srgbClr val="000000"/>
                </a:solidFill>
                <a:latin typeface="Perpetua"/>
              </a:rPr>
              <a:t>j</a:t>
            </a:r>
            <a:r>
              <a:rPr b="0" lang="fr-FR" sz="1600" spc="-1" strike="noStrike">
                <a:solidFill>
                  <a:srgbClr val="000000"/>
                </a:solidFill>
                <a:latin typeface="Perpetua"/>
              </a:rPr>
              <a:t> </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Unsubscribtion to current operational and institutional filters F</a:t>
            </a:r>
            <a:r>
              <a:rPr b="0" lang="fr-FR" sz="1600" spc="-1" strike="noStrike" baseline="30000">
                <a:solidFill>
                  <a:srgbClr val="000000"/>
                </a:solidFill>
                <a:latin typeface="Perpetua"/>
              </a:rPr>
              <a:t>op</a:t>
            </a:r>
            <a:r>
              <a:rPr b="0" lang="fr-FR" sz="1600" spc="-1" strike="noStrike" baseline="-25000">
                <a:solidFill>
                  <a:srgbClr val="000000"/>
                </a:solidFill>
                <a:latin typeface="Perpetua"/>
              </a:rPr>
              <a:t> i</a:t>
            </a:r>
            <a:r>
              <a:rPr b="0" lang="fr-FR" sz="1600" spc="-1" strike="noStrike">
                <a:solidFill>
                  <a:srgbClr val="000000"/>
                </a:solidFill>
                <a:latin typeface="Perpetua"/>
              </a:rPr>
              <a:t>, F</a:t>
            </a:r>
            <a:r>
              <a:rPr b="0" lang="fr-FR" sz="1600" spc="-1" strike="noStrike" baseline="30000">
                <a:solidFill>
                  <a:srgbClr val="000000"/>
                </a:solidFill>
                <a:latin typeface="Perpetua"/>
              </a:rPr>
              <a:t>inst</a:t>
            </a:r>
            <a:r>
              <a:rPr b="0" lang="fr-FR" sz="1600" spc="-1" strike="noStrike" baseline="-25000">
                <a:solidFill>
                  <a:srgbClr val="000000"/>
                </a:solidFill>
                <a:latin typeface="Perpetua"/>
              </a:rPr>
              <a:t>i</a:t>
            </a:r>
            <a:r>
              <a:rPr b="0" lang="fr-FR" sz="1600" spc="-1" strike="noStrike" baseline="-25000">
                <a:solidFill>
                  <a:srgbClr val="000000"/>
                </a:solidFill>
                <a:latin typeface="Wingdings"/>
                <a:ea typeface="Wingdings"/>
              </a:rPr>
              <a:t></a:t>
            </a:r>
            <a:r>
              <a:rPr b="0" lang="fr-FR" sz="1600" spc="-1" strike="noStrike" baseline="-25000">
                <a:solidFill>
                  <a:srgbClr val="000000"/>
                </a:solidFill>
                <a:latin typeface="Perpetua"/>
              </a:rPr>
              <a:t>J</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Subscription to new institutional filters {F</a:t>
            </a:r>
            <a:r>
              <a:rPr b="0" lang="fr-FR" sz="1600" spc="-1" strike="noStrike" baseline="30000">
                <a:solidFill>
                  <a:srgbClr val="000000"/>
                </a:solidFill>
                <a:latin typeface="Perpetua"/>
              </a:rPr>
              <a:t>inst</a:t>
            </a:r>
            <a:r>
              <a:rPr b="0" lang="fr-FR" sz="1600" spc="-1" strike="noStrike">
                <a:solidFill>
                  <a:srgbClr val="000000"/>
                </a:solidFill>
                <a:latin typeface="Perpetua"/>
              </a:rPr>
              <a:t> </a:t>
            </a:r>
            <a:r>
              <a:rPr b="0" lang="fr-FR" sz="1600" spc="-1" strike="noStrike" baseline="-25000">
                <a:solidFill>
                  <a:srgbClr val="000000"/>
                </a:solidFill>
                <a:latin typeface="Perpetua"/>
              </a:rPr>
              <a:t>j</a:t>
            </a:r>
            <a:r>
              <a:rPr b="0" lang="fr-FR" sz="1600" spc="-1" strike="noStrike" baseline="-25000">
                <a:solidFill>
                  <a:srgbClr val="000000"/>
                </a:solidFill>
                <a:latin typeface="Wingdings"/>
                <a:ea typeface="Wingdings"/>
              </a:rPr>
              <a:t></a:t>
            </a:r>
            <a:r>
              <a:rPr b="0" lang="fr-FR" sz="1600" spc="-1" strike="noStrike" baseline="-25000">
                <a:solidFill>
                  <a:srgbClr val="000000"/>
                </a:solidFill>
                <a:latin typeface="Perpetua"/>
              </a:rPr>
              <a:t>k</a:t>
            </a:r>
            <a:r>
              <a:rPr b="0" lang="fr-FR" sz="1600" spc="-1" strike="noStrike">
                <a:solidFill>
                  <a:srgbClr val="000000"/>
                </a:solidFill>
                <a:latin typeface="Perpetua"/>
              </a:rPr>
              <a:t>}</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Subscription to new operational filters {F</a:t>
            </a:r>
            <a:r>
              <a:rPr b="0" lang="fr-FR" sz="1600" spc="-1" strike="noStrike" baseline="30000">
                <a:solidFill>
                  <a:srgbClr val="000000"/>
                </a:solidFill>
                <a:latin typeface="Perpetua"/>
              </a:rPr>
              <a:t>op</a:t>
            </a:r>
            <a:r>
              <a:rPr b="0" lang="fr-FR" sz="1600" spc="-1" strike="noStrike" baseline="-25000">
                <a:solidFill>
                  <a:srgbClr val="000000"/>
                </a:solidFill>
                <a:latin typeface="Perpetua"/>
              </a:rPr>
              <a:t> </a:t>
            </a:r>
            <a:r>
              <a:rPr b="0" lang="fr-FR" sz="1600" spc="-1" strike="noStrike">
                <a:solidFill>
                  <a:srgbClr val="000000"/>
                </a:solidFill>
                <a:latin typeface="Perpetua"/>
              </a:rPr>
              <a:t>}</a:t>
            </a:r>
            <a:r>
              <a:rPr b="0" lang="fr-FR" sz="1600" spc="-1" strike="noStrike" baseline="-25000">
                <a:solidFill>
                  <a:srgbClr val="000000"/>
                </a:solidFill>
                <a:latin typeface="Perpetua"/>
              </a:rPr>
              <a:t>j </a:t>
            </a:r>
            <a:r>
              <a:rPr b="0" lang="fr-FR" sz="1600" spc="-1" strike="noStrike">
                <a:solidFill>
                  <a:srgbClr val="000000"/>
                </a:solidFill>
                <a:latin typeface="Perpetua"/>
              </a:rPr>
              <a:t>corresponding to the new policy P</a:t>
            </a:r>
            <a:r>
              <a:rPr b="0" lang="fr-FR" sz="1600" spc="-1" strike="noStrike" baseline="-25000">
                <a:solidFill>
                  <a:srgbClr val="000000"/>
                </a:solidFill>
                <a:latin typeface="Perpetua"/>
              </a:rPr>
              <a:t>j</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ssignement of new local variables to the new policy</a:t>
            </a:r>
            <a:endParaRPr b="0" lang="en-US" sz="16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 Vettier, « Suivi de l’Activité Humaine par Hypothèses Multiples Abductives », PhD Thesis, University of Grenoble, 2013</a:t>
            </a:r>
            <a:endParaRPr b="0" lang="en-US" sz="1800" spc="-1" strike="noStrike">
              <a:solidFill>
                <a:srgbClr val="000000"/>
              </a:solidFill>
              <a:latin typeface="Perpetua"/>
            </a:endParaRPr>
          </a:p>
        </p:txBody>
      </p:sp>
      <p:sp>
        <p:nvSpPr>
          <p:cNvPr id="29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9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E5773C-081F-4B9E-81F5-D78C40F9C875}"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9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9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6C64BE-198C-43A1-B456-2CCCEF59C17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00" name="Image 6" descr=""/>
          <p:cNvPicPr/>
          <p:nvPr/>
        </p:nvPicPr>
        <p:blipFill>
          <a:blip r:embed="rId1"/>
          <a:stretch/>
        </p:blipFill>
        <p:spPr>
          <a:xfrm>
            <a:off x="579600" y="839880"/>
            <a:ext cx="7904160" cy="504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sp>
        <p:nvSpPr>
          <p:cNvPr id="23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 – Image Processing: a decentralized view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 – Multi-agent desig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I – A Cooperative Framework for Brain MRI Segmentatio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V – Ambient Intelligence: the case of monitoring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8000"/>
                </a:solidFill>
                <a:latin typeface="Perpetua"/>
              </a:rPr>
              <a:t>Part V – Normative Multi-Agent System</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I – Abductive Agents for Human Activity Monitoring</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II – Evaluative Experiments</a:t>
            </a:r>
            <a:endParaRPr b="0" lang="en-US" sz="2400" spc="-1" strike="noStrike">
              <a:solidFill>
                <a:srgbClr val="000000"/>
              </a:solidFill>
              <a:latin typeface="Perpetua"/>
            </a:endParaRPr>
          </a:p>
        </p:txBody>
      </p:sp>
      <p:sp>
        <p:nvSpPr>
          <p:cNvPr id="237"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38"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39"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33C687-1DAC-483F-8C18-424C1B2566A1}"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Norm »: Merriam-Webster Online Dictionary</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 principle of right action binding upon the members of a group and serving to guide, control, or regulate proper and acceptable behavior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t: « an authoritative standard or model », « an average like a standard, typical pattern, widespread practice or rule in a Group », and various definitions used in mathematics.</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From G. Boella &amp; L. van der Torre, Normative Reasoning and Decision Making, Tutorial at EASSS08</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ore than distinguishing right from wrong, more than describing what counts as a violation, more than constraints, norms are rules to guide, control or regulate behavior</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Norms can be communicated, Norms can be adopted, Norms can be used</a:t>
            </a:r>
            <a:endParaRPr b="0" lang="en-US" sz="2000" spc="-1" strike="noStrike">
              <a:solidFill>
                <a:srgbClr val="000000"/>
              </a:solidFill>
              <a:latin typeface="Perpetua"/>
            </a:endParaRPr>
          </a:p>
        </p:txBody>
      </p:sp>
      <p:sp>
        <p:nvSpPr>
          <p:cNvPr id="24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4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4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787222-6527-4947-96E8-DFF8E2E51F3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4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2005: Normative MultiAgent Systems are multiagent systems with normative systems in which agents can decide whether to follow the explicitly represented norms, and the normative systems specify how and in which extent the agents can modify the norms.</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 Boella, L. van der Torre, H. Verhagen, Introduction to normative multiagent systems. </a:t>
            </a:r>
            <a:r>
              <a:rPr b="0" i="1" lang="fr-FR" sz="1800" spc="-1" strike="noStrike">
                <a:solidFill>
                  <a:srgbClr val="000000"/>
                </a:solidFill>
                <a:latin typeface="Perpetua"/>
              </a:rPr>
              <a:t>Computational and Mathematical Organization Theory, double special issue on normative multiagent systems, 2006.</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2007: Normative MultiAgent System is a multiagent system organized by means of mechanisms to represent, communicate, distribute, detect, create, modify, and enforce norms, and mechanisms to deliberate about norms and detect norm violation and fulfillment.</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 Boella, L. van der Torre, and H. Verhagen, Introduction to the special issue on normative multiagent systems. </a:t>
            </a:r>
            <a:r>
              <a:rPr b="0" i="1" lang="fr-FR" sz="1800" spc="-1" strike="noStrike">
                <a:solidFill>
                  <a:srgbClr val="000000"/>
                </a:solidFill>
                <a:latin typeface="Perpetua"/>
              </a:rPr>
              <a:t>Autonomous Agents and MultiAgent Systems, Aug. 2008.</a:t>
            </a:r>
            <a:endParaRPr b="0" lang="en-US" sz="1800" spc="-1" strike="noStrike">
              <a:solidFill>
                <a:srgbClr val="000000"/>
              </a:solidFill>
              <a:latin typeface="Perpetua"/>
            </a:endParaRPr>
          </a:p>
        </p:txBody>
      </p:sp>
      <p:sp>
        <p:nvSpPr>
          <p:cNvPr id="24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4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4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52173D-BEBF-4445-820E-E4335D6D77A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rmative MAS are a class of Multi-Agent Systems in which agent behavior is not only guided by their mere individual objectives, but also governed by social constraints</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Perpetua"/>
              </a:rPr>
              <a:t>These social constraints, or norms, are designed as production rules and triggered by a dedicated engine. They result in agent notifications, thus operating as external incentives for action</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gents subscribe to norms and may adopt them or not, which may result in penalties.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rms may finally be adapted to cope with the evolution of context. The system dynamics therefore depends not only on the agent dynamics but also on the dynamics of the norms</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 Vettier, L. Amate, C. Garbay: A Multi-Hypothesis Monitoring Architecture: Application to Ambulatory Physiology. STAIRS 2012: 348-359</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25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5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5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890C5E-72BC-4AEE-AC96-76545DC839E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4320"/>
            <a:ext cx="7772400" cy="717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56" name=""/>
          <p:cNvSpPr txBox="1"/>
          <p:nvPr/>
        </p:nvSpPr>
        <p:spPr>
          <a:xfrm>
            <a:off x="914400" y="992160"/>
            <a:ext cx="7772400" cy="502776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orms: a conditional structure that captures the applicability conditions of the norm and its effects when it is triggered</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Usually represented using standard deontic logic, including deontic operators within a logic proposition language (AND, OR, negation¬, implication →)</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rescriptive norms regulate actions by making them obligatory, permitted, or prohibited</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se norms, to be complete, should indicate who (norm-subjects) does what (the action theme) in what circumstances (conditions of application), and the nature of their guidance (the mood)</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 = &lt;Id, Ω, M</a:t>
            </a:r>
            <a:r>
              <a:rPr b="0" lang="fr-FR" sz="1800" spc="-1" strike="noStrike" baseline="-25000">
                <a:solidFill>
                  <a:srgbClr val="000000"/>
                </a:solidFill>
                <a:latin typeface="Perpetua"/>
              </a:rPr>
              <a:t>R, S</a:t>
            </a:r>
            <a:r>
              <a:rPr b="0" lang="fr-FR" sz="1800" spc="-1" strike="noStrike">
                <a:solidFill>
                  <a:srgbClr val="000000"/>
                </a:solidFill>
                <a:latin typeface="Perpetua"/>
              </a:rPr>
              <a:t>, Cond</a:t>
            </a:r>
            <a:r>
              <a:rPr b="0" lang="fr-FR" sz="1800" spc="-1" strike="noStrike" baseline="-25000">
                <a:solidFill>
                  <a:srgbClr val="000000"/>
                </a:solidFill>
                <a:latin typeface="Perpetua"/>
              </a:rPr>
              <a:t>A, E</a:t>
            </a:r>
            <a:r>
              <a:rPr b="0" lang="fr-FR" sz="1800" spc="-1" strike="noStrike">
                <a:solidFill>
                  <a:srgbClr val="000000"/>
                </a:solidFill>
                <a:latin typeface="Perpetua"/>
              </a:rPr>
              <a:t>, [B], A&gt;</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d: unique identifier</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Ω: a weight (to resolve conflict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M</a:t>
            </a:r>
            <a:r>
              <a:rPr b="0" lang="fr-FR" sz="1800" spc="-1" strike="noStrike" baseline="-25000">
                <a:solidFill>
                  <a:srgbClr val="000000"/>
                </a:solidFill>
                <a:latin typeface="Perpetua"/>
              </a:rPr>
              <a:t>R, S </a:t>
            </a:r>
            <a:r>
              <a:rPr b="0" lang="fr-FR" sz="1800" spc="-1" strike="noStrike">
                <a:solidFill>
                  <a:srgbClr val="000000"/>
                </a:solidFill>
                <a:latin typeface="Perpetua"/>
              </a:rPr>
              <a:t>: deontic operator (prohibition, permission, obligation…) and reward/sanction</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nd</a:t>
            </a:r>
            <a:r>
              <a:rPr b="0" lang="fr-FR" sz="1800" spc="-1" strike="noStrike" baseline="-25000">
                <a:solidFill>
                  <a:srgbClr val="000000"/>
                </a:solidFill>
                <a:latin typeface="Perpetua"/>
              </a:rPr>
              <a:t>A, E </a:t>
            </a:r>
            <a:r>
              <a:rPr b="0" lang="fr-FR" sz="1800" spc="-1" strike="noStrike">
                <a:solidFill>
                  <a:srgbClr val="000000"/>
                </a:solidFill>
                <a:latin typeface="Perpetua"/>
              </a:rPr>
              <a:t>: activation / expiration condition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 the set of bearers: agents which subscribe to this norm</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 activity regulated by the norm</a:t>
            </a:r>
            <a:endParaRPr b="0" lang="en-US" sz="1800" spc="-1" strike="noStrike">
              <a:solidFill>
                <a:srgbClr val="000000"/>
              </a:solidFill>
              <a:latin typeface="Perpetua"/>
            </a:endParaRPr>
          </a:p>
        </p:txBody>
      </p:sp>
      <p:sp>
        <p:nvSpPr>
          <p:cNvPr id="25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5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5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2C71CC-7886-4479-BED7-EAB729642011}"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fontScale="98000"/>
          </a:bodyPr>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Deliberative (autonomous ) normative agent</a:t>
            </a:r>
            <a:endParaRPr b="0" lang="en-US" sz="1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orms to influence in some way the behaviour of the agent</a:t>
            </a:r>
            <a:endParaRPr b="0" lang="en-US" sz="18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Perpetua"/>
              </a:rPr>
              <a:t>But as a motivated « conscious » separate decision  from the agent, rather than a direct filtering of goals or constraints on the decision process</a:t>
            </a:r>
            <a:endParaRPr b="0" lang="en-US" sz="14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Perpetua"/>
              </a:rPr>
              <a:t>Leaving the agent react </a:t>
            </a:r>
            <a:r>
              <a:rPr b="0" lang="en-US" sz="1400" spc="-1" strike="noStrike">
                <a:solidFill>
                  <a:srgbClr val="000000"/>
                </a:solidFill>
                <a:latin typeface="Perpetua"/>
              </a:rPr>
              <a:t>to an unpredictable changing environment, rather than forcing a fixed protocol, with norms hard-wired into the agents</a:t>
            </a:r>
            <a:endParaRPr b="0" lang="en-US" sz="14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Deliberative normative agent </a:t>
            </a:r>
            <a:r>
              <a:rPr b="0" lang="fr-FR" sz="1800" spc="-1" strike="noStrike">
                <a:solidFill>
                  <a:srgbClr val="000000"/>
                </a:solidFill>
                <a:latin typeface="Perpetua"/>
              </a:rPr>
              <a:t>have explicit knowledge about the enacted norms  and can make a choice whether to obey the norms or not in specific cases</a:t>
            </a:r>
            <a:endParaRPr b="0" lang="en-US" sz="1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combination of the agent’s own goals and plans with the norms then determines the actual behaviour of the agent</a:t>
            </a:r>
            <a:endParaRPr b="0" lang="en-US" sz="1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 Castelfranchi, F. Dignum, C.M. Jonker, J. Treur, Deliberative Normative Agents: Principles and Architecture, Proc. ATAL '99 6th International Workshop on Intelligent Agents VI, Agen Theories, Architectures, and Languages (ATAL), Springer-Verlag London, UK, 2000</a:t>
            </a:r>
            <a:endParaRPr b="0" lang="en-US" sz="1800" spc="-1" strike="noStrike">
              <a:solidFill>
                <a:srgbClr val="000000"/>
              </a:solidFill>
              <a:latin typeface="Perpetua"/>
            </a:endParaRPr>
          </a:p>
        </p:txBody>
      </p:sp>
      <p:sp>
        <p:nvSpPr>
          <p:cNvPr id="26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6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6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735119-DDB7-46E5-BA34-5622187E9431}"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680"/>
            <a:ext cx="7772400" cy="984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66" name="PlaceHolder 2"/>
          <p:cNvSpPr>
            <a:spLocks noGrp="1"/>
          </p:cNvSpPr>
          <p:nvPr>
            <p:ph/>
          </p:nvPr>
        </p:nvSpPr>
        <p:spPr>
          <a:xfrm>
            <a:off x="914400" y="1258560"/>
            <a:ext cx="7772400" cy="4761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orm-autonomous agent are agents </a:t>
            </a:r>
            <a:endParaRPr b="0" lang="en-US" sz="2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ble to</a:t>
            </a:r>
            <a:r>
              <a:rPr b="0" lang="pt-BR" sz="1800" spc="-1" strike="noStrike">
                <a:solidFill>
                  <a:srgbClr val="000000"/>
                </a:solidFill>
                <a:latin typeface="Perpetua"/>
              </a:rPr>
              <a:t> </a:t>
            </a:r>
            <a:r>
              <a:rPr b="0" lang="en-US" sz="1800" spc="-1" strike="noStrike">
                <a:solidFill>
                  <a:srgbClr val="000000"/>
                </a:solidFill>
                <a:latin typeface="Perpetua"/>
              </a:rPr>
              <a:t>know that a norm exists in the society: norms may </a:t>
            </a:r>
            <a:r>
              <a:rPr b="0" lang="fr-FR" sz="1800" spc="-1" strike="noStrike">
                <a:solidFill>
                  <a:srgbClr val="000000"/>
                </a:solidFill>
                <a:latin typeface="Perpetua"/>
              </a:rPr>
              <a:t>be subscribed autonomously, received by communication or by observation</a:t>
            </a:r>
            <a:endParaRPr b="0" lang="en-US" sz="18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ble to adopt this norm and deliberatively follow it (generate goals and plans </a:t>
            </a:r>
            <a:r>
              <a:rPr b="0" lang="fr-FR" sz="1800" spc="-1" strike="noStrike">
                <a:solidFill>
                  <a:srgbClr val="000000"/>
                </a:solidFill>
                <a:latin typeface="Perpetua"/>
              </a:rPr>
              <a:t>on this basis)</a:t>
            </a:r>
            <a:r>
              <a:rPr b="0" lang="en-US" sz="1800" spc="-1" strike="noStrike">
                <a:solidFill>
                  <a:srgbClr val="000000"/>
                </a:solidFill>
                <a:latin typeface="Perpetua"/>
              </a:rPr>
              <a:t> or on the contrary deliberatively violate</a:t>
            </a:r>
            <a:r>
              <a:rPr b="0" lang="fr-FR" sz="1800" spc="-1" strike="noStrike">
                <a:solidFill>
                  <a:srgbClr val="000000"/>
                </a:solidFill>
                <a:latin typeface="Perpetua"/>
              </a:rPr>
              <a:t> it in case of conflicts with other norms or, for example, with more important personal goals</a:t>
            </a:r>
            <a:endParaRPr b="0" lang="en-US" sz="1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Norms have impact </a:t>
            </a:r>
            <a:endParaRPr b="0" lang="en-US" sz="2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on goal generation; they are among the possible « sources of goals » (what we should/have to do) together with bodily needs, emotions, wishes and desires (what we would like/wish to do). By generating goals, norms provide also a target for reasoning (drive and focus the reasoning activity)</a:t>
            </a:r>
            <a:endParaRPr b="0" lang="en-US" sz="18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on goal selection by providing criteria about how to manage and select among existing goals; in particular preference criteria. They push us to prefer one goal over another</a:t>
            </a:r>
            <a:endParaRPr b="0" lang="en-US" sz="18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How to achieve the selected goal may be left to the agent’s autonomous decision</a:t>
            </a:r>
            <a:endParaRPr b="0" lang="en-US" sz="1800" spc="-1" strike="noStrike">
              <a:solidFill>
                <a:srgbClr val="000000"/>
              </a:solidFill>
              <a:latin typeface="Perpetua"/>
            </a:endParaRPr>
          </a:p>
          <a:p>
            <a:pPr marL="2426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67" name="Espace réservé de la date 19"/>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68" name="Espace réservé du pied de page 2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69" name="Espace réservé du numéro de diapositive 2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CC5DCC-F117-40ED-BFE9-0F413DD4BF7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How to achieve the selected goal (agent’s own process goal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1. has impact on the input of the functioning of the agent’s own processes; e.g., it defines a focus on the input information used in the processing</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2. has impact on what output is attempted to generate; e.g., it defines a focus on the targets to be directed to in the processing</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3. defines a focus on the functionality relation between input and output; e.g., it defines a focus on the kind of model or method to be used to produce some output data based on some input data</a:t>
            </a:r>
            <a:endParaRPr b="0" lang="en-US" sz="2000" spc="-1" strike="noStrike">
              <a:solidFill>
                <a:srgbClr val="000000"/>
              </a:solidFill>
              <a:latin typeface="Perpetua"/>
            </a:endParaRPr>
          </a:p>
        </p:txBody>
      </p:sp>
      <p:sp>
        <p:nvSpPr>
          <p:cNvPr id="27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7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5BCCCD-0894-4489-8087-2FD4335C00A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9T18:53:39Z</dcterms:created>
  <dc:creator>Garbay Catherine</dc:creator>
  <dc:description/>
  <dc:language>en-US</dc:language>
  <cp:lastModifiedBy>Garbay Catherine</cp:lastModifiedBy>
  <cp:lastPrinted>2013-06-12T14:28:04Z</cp:lastPrinted>
  <dcterms:modified xsi:type="dcterms:W3CDTF">2013-08-30T02:24:32Z</dcterms:modified>
  <cp:revision>372</cp:revision>
  <dc:subject/>
  <dc:title>L’intelligence ambiante</dc:title>
</cp:coreProperties>
</file>